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56D-6F7C-4C6B-90F4-FF73505A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048-619F-4E99-8722-5F7EE671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D54-83F9-47FC-B127-ED8520B9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951-A50F-4F0B-8CC5-9B631F04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4F4-6532-4D89-AEF5-B1F9D388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026-0649-4FAA-BC3A-CAB2B61D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18E-FE12-451C-AD47-1E77C835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2F5-CAED-47D5-BE19-D8E7CC0D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DB9-9FAB-479D-82FA-E26EECD1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E9E-633E-4ABC-8DA0-02604BA5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C5B-AC1C-4495-8108-4B9677EF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725-7E2F-467E-849F-4BAC90CB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FC45-0138-41DE-9999-805AA4CE4C7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93 Nový nastal r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vý nastal rok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veď náš krok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roku minulé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uj pokušenia zlého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lom v nás hriechu 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ď nám na po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jmi chválu, č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ú vzácnu zv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nás chráni tvoja ru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nám milostivo nú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jnosť pokoj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esto rozbroj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iteľu, sá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káž cestu n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y poznáš našu mdlob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ach zo smrti, úzkosť hrobu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c aj klesá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eba dúf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jlepšie ty vi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kam nás doviesť chc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nám hrozí v žitia boj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ý úklad zloba stroj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to veď náš krok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po celý rok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53:19Z</dcterms:modified>
  <cp:revision>95</cp:revision>
  <dc:subject/>
  <dc:title>Je veľký náš Pán, on slávy je Kráľ Nech do všetkých strán  spev vrúcnych znie chvál.</dc:title>
</cp:coreProperties>
</file>